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691813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FEF-FC0A-4F34-A43D-7D016FCE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3E8-9D6D-4F5E-AB51-B5F6AE7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49F-43CE-4075-8804-0C4D8151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672-778E-494A-9282-52312102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3D1A-E35C-4CD2-B292-69DFBCA4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01BA-7DE6-414A-8638-DB131167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AFF1-3ADA-4695-8A26-F8DFDF97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8D3-5229-4B68-A0B9-BC6F42FE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EB9-67BE-44DE-8BE6-4E8A323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B296-2067-4F83-B313-F1423B31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0793-3EC2-45B6-BF66-E5DD93E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13E-C9B4-4D64-B41E-05DA48FF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1824-B6D3-4A4C-8B91-3CB1CD4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7A74-5FF3-47EB-B76E-7BEC326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3B98-6EFD-4224-9132-9380EF7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6F5-4F04-426F-B7CB-C814FA2D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59F7-11A1-4E36-A85A-636E943E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0FFE-745A-4840-AF68-30FE2876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9ABE-95B7-4B52-B0DD-F4D693D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F02A-61C0-4234-8BE8-FA92998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9068-432C-4DF3-B0C3-6D8A77B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E534-BE4E-4825-B9CF-A3B6031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D1B-78EC-409E-BE9E-A0EE743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230E-CBB9-4EFB-9DF3-3F1E82A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63CB-C2B7-4347-9200-49AF390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6BB9-24E8-4B65-9FE2-42FFFC0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6B87-08B6-420B-AFC6-738002E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DD94-EAB3-4C33-8CEE-D9608BE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7B2C-3588-4B9E-BF69-4CBDD721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279C-4F36-4FC1-AD1D-E56E14B9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B38-886F-47EC-AFE8-D905675F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0EA-6EAC-43ED-ADC1-86725C5C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B1B-4410-45FD-B987-9B14B59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5E5-99B8-43D1-A037-AEA1BE4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3B7-759A-4A93-85D6-58CFD313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08B-959F-4EC2-954F-5B15439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59D-011C-4F0A-B819-CB314F2096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234-13D6-43B3-A69A-2298FEF13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D546-132C-4EFF-9745-13AF75054D58}" type="datetime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166-AFED-4156-AC44-6E0333B5CAE5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logo.png"/>
          <p:cNvPicPr/>
          <p:nvPr/>
        </p:nvPicPr>
        <p:blipFill>
          <a:blip r:embed="rId2"/>
          <a:stretch/>
        </p:blipFill>
        <p:spPr>
          <a:xfrm>
            <a:off x="8924760" y="581040"/>
            <a:ext cx="938520" cy="6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on.jpg"/>
          <p:cNvPicPr/>
          <p:nvPr/>
        </p:nvPicPr>
        <p:blipFill>
          <a:blip r:embed="rId3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.png"/>
          <p:cNvPicPr/>
          <p:nvPr/>
        </p:nvPicPr>
        <p:blipFill>
          <a:blip r:embed="rId4"/>
          <a:stretch/>
        </p:blipFill>
        <p:spPr>
          <a:xfrm>
            <a:off x="9102600" y="433440"/>
            <a:ext cx="93996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1"/>
          <p:cNvSpPr/>
          <p:nvPr/>
        </p:nvSpPr>
        <p:spPr>
          <a:xfrm>
            <a:off x="846000" y="1409760"/>
            <a:ext cx="900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931160" y="697536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8DA21-FAA0-4FE4-8D9A-6931AF4B77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990-8A1C-4F7E-9245-3816448F8056}" type="datetime">
              <a:rPr b="1" lang="ru-RU" sz="1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E126-DC9C-43FC-9363-606AF364C197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Cover.jpg"/>
          <p:cNvPicPr/>
          <p:nvPr/>
        </p:nvPicPr>
        <p:blipFill>
          <a:blip r:embed="rId1"/>
          <a:stretch/>
        </p:blipFill>
        <p:spPr>
          <a:xfrm>
            <a:off x="7920" y="108000"/>
            <a:ext cx="10599840" cy="694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3240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 совершенствовании основополагающих стандартов по межгосударственной стандартизации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8.20, 9.4. МГС № 52-2017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936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6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A1BC371B-B1AE-450B-9026-B20B1FA547F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Cover.jpg"/>
          <p:cNvPicPr/>
          <p:nvPr/>
        </p:nvPicPr>
        <p:blipFill>
          <a:blip r:embed="rId1"/>
          <a:stretch/>
        </p:blipFill>
        <p:spPr>
          <a:xfrm>
            <a:off x="7920" y="152280"/>
            <a:ext cx="10599840" cy="694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324036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уктура доклада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. Состояние вопроса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. Изменение № 1 ГОСТ 1.1—2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02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3. Изменение № 1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15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4. Изменение № 2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01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5.                             ГОСТ 1.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—201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_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6. Предложение в проект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936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CA9C8D1C-83F2-48BF-91AE-479054976A8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6"/>
          <p:cNvSpPr/>
          <p:nvPr/>
        </p:nvSpPr>
        <p:spPr>
          <a:xfrm>
            <a:off x="4554360" y="708120"/>
            <a:ext cx="518328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1 Размещение уведомлений о разработке первых редакций проектов стандартов  дек.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2 Окончание рассмотрения первых редакций проектов стандартов</a:t>
            </a:r>
            <a:br>
              <a:rPr sz="1600"/>
            </a:b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30 марта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3 Размещение первых редакций проектов стандартов в АИС МГС  28 марта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4 Окончание рассмотрения первых редакций проектов стандартов в АИС МГС 28 ма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5 Доработка окончательных редакций проектов стандартов 20 июн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6 Информирование МГС о состоянии разработки 26 июня 201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Verdana"/>
              </a:rPr>
              <a:t>7 Принятие окончательных редакций проектов стандартов на 56-м заседании НТКС и утверждение окончательных редакций на 54-м заседании М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2630520" y="4738680"/>
            <a:ext cx="1727280" cy="24415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2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Состояние вопро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1"/>
          <p:cNvPicPr/>
          <p:nvPr/>
        </p:nvPicPr>
        <p:blipFill>
          <a:blip r:embed="rId2"/>
          <a:stretch/>
        </p:blipFill>
        <p:spPr>
          <a:xfrm>
            <a:off x="482760" y="1692360"/>
            <a:ext cx="1677960" cy="2376360"/>
          </a:xfrm>
          <a:prstGeom prst="rect">
            <a:avLst/>
          </a:prstGeom>
          <a:ln w="31680">
            <a:solidFill>
              <a:srgbClr val="d16f18"/>
            </a:solidFill>
            <a:miter/>
          </a:ln>
        </p:spPr>
      </p:pic>
      <p:pic>
        <p:nvPicPr>
          <p:cNvPr id="144" name="Picture 10" descr="1"/>
          <p:cNvPicPr/>
          <p:nvPr/>
        </p:nvPicPr>
        <p:blipFill>
          <a:blip r:embed="rId3"/>
          <a:stretch/>
        </p:blipFill>
        <p:spPr>
          <a:xfrm>
            <a:off x="2630520" y="1671480"/>
            <a:ext cx="1693800" cy="2397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45" name="Picture 7" descr="1"/>
          <p:cNvPicPr/>
          <p:nvPr/>
        </p:nvPicPr>
        <p:blipFill>
          <a:blip r:embed="rId4"/>
          <a:stretch/>
        </p:blipFill>
        <p:spPr>
          <a:xfrm>
            <a:off x="468360" y="4738680"/>
            <a:ext cx="1722240" cy="24368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6" name="Номер слайда 7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EC925981-C563-40B7-8E2E-A697BF102E7A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>
            <a:off x="4552920" y="1476360"/>
            <a:ext cx="4451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 Исключить 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4549680" y="1751040"/>
            <a:ext cx="56451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Государственная стандартизация (ст. 2.5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Государственный стандарт (ст. 4.1.1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Регламентирующий орган власти (ст. 3.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Исполнительный орган по регламентам (ст. 3.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4552920" y="2629080"/>
            <a:ext cx="44514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 Дополнить тер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549680" y="2916360"/>
            <a:ext cx="499896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Эксперт по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язательный стандарт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Ссылка на стандарт (в документе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Датированная ссылка (на стандарт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Недатированная ссылка (на стандарт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щ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Обязательн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Индикативная ссылка (на стандарты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Ссылоч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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термины из Руководства ИСО/МЭК 2: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*перенос терминов из ГОСТ Р 1.12-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4552920" y="5292720"/>
            <a:ext cx="48830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 Изменить определения 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4549680" y="5580000"/>
            <a:ext cx="598176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Технический комитет по стандартизации (ст. 3.1.4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приведение в соответствие с ФЗ «О стандартизации в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Межгосударственный технический комитет по стандар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(ст. 3.1.4.1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увязка с ГОСТ 1.4—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Национальный орган по стандартизации (ст. 3.1.1)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приведение в соответствие с ФЗ «О стандартизации в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Международный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</a:rPr>
              <a:t>(ст. 4.1.1.1) – </a:t>
            </a:r>
            <a:r>
              <a:rPr b="0" i="1" lang="ru-RU" sz="1400" spc="-1" strike="noStrike">
                <a:solidFill>
                  <a:srgbClr val="003399"/>
                </a:solidFill>
                <a:latin typeface="Arial"/>
              </a:rPr>
              <a:t>увязка с ГОСТ 1.3—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1"/>
          <p:cNvPicPr/>
          <p:nvPr/>
        </p:nvPicPr>
        <p:blipFill>
          <a:blip r:embed="rId1"/>
          <a:stretch/>
        </p:blipFill>
        <p:spPr>
          <a:xfrm>
            <a:off x="320760" y="1620720"/>
            <a:ext cx="4017960" cy="568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4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1 ГОСТ 1.1–200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9"/>
          <p:cNvSpPr/>
          <p:nvPr/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 algn="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BCFCE067-236D-4279-9ABE-9D1765DEB18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5"/>
          <p:cNvSpPr/>
          <p:nvPr/>
        </p:nvSpPr>
        <p:spPr>
          <a:xfrm>
            <a:off x="3475080" y="1763640"/>
            <a:ext cx="69721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just">
              <a:lnSpc>
                <a:spcPts val="2098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1.  Пункт 4.4 ГОСТ 1.2-2015  изложить в новой реда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«4.4 Межгосударственный стандарт считается принятым по результатам голосования в АИС МГС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Calibri"/>
              </a:rPr>
              <a:t>при достижении консенсуса 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между национальными органами, принявшими участие в голосовании, если за его принятие в окончательной редакции проголосовало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Calibri"/>
              </a:rPr>
              <a:t>не менее четырех из них (включая национальный орган государства-разработчика)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Национальные органы государств, не заинтересованных в применении данного межгосударственного стандарта, должны воздержаться при голосовании по его принятию, а для государств, являющихся полноправными членами МТК, голосование по принимаемым межгосударственным стандартам, относящимся к области деятельности данного МТК, является обязательны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1"/>
          <p:cNvPicPr/>
          <p:nvPr/>
        </p:nvPicPr>
        <p:blipFill>
          <a:blip r:embed="rId1"/>
          <a:stretch/>
        </p:blipFill>
        <p:spPr>
          <a:xfrm>
            <a:off x="189000" y="1763640"/>
            <a:ext cx="3213000" cy="45482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pic>
        <p:nvPicPr>
          <p:cNvPr id="158" name="Picture 23" descr="image002"/>
          <p:cNvPicPr/>
          <p:nvPr/>
        </p:nvPicPr>
        <p:blipFill>
          <a:blip r:embed="rId2"/>
          <a:stretch/>
        </p:blipFill>
        <p:spPr>
          <a:xfrm>
            <a:off x="295200" y="2646360"/>
            <a:ext cx="381240" cy="358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344760" y="6372360"/>
            <a:ext cx="725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Calibri"/>
              </a:rPr>
              <a:t>Примечание – Консенсус заключается в отсутствии мотивированных (аргументированных) возражений по существу проекта межгосударственного стандарта у любой из участвующих в голосовании стор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1 ГОСТ 1.2-20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п.4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6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4A2-5E73-4E73-9406-76B2FE848E12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3"/>
          <p:cNvSpPr/>
          <p:nvPr/>
        </p:nvSpPr>
        <p:spPr>
          <a:xfrm>
            <a:off x="4591080" y="1476360"/>
            <a:ext cx="5834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пользование ссы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4915080" y="1908000"/>
            <a:ext cx="40320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датированных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недатированных</a:t>
            </a: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 случае от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1"/>
          <p:cNvPicPr/>
          <p:nvPr/>
        </p:nvPicPr>
        <p:blipFill>
          <a:blip r:embed="rId1"/>
          <a:stretch/>
        </p:blipFill>
        <p:spPr>
          <a:xfrm>
            <a:off x="295200" y="1620720"/>
            <a:ext cx="4070520" cy="576108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65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Verdana"/>
              </a:rPr>
              <a:t>Изменение №2 ГОСТ 1.5-20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552920" y="2700360"/>
            <a:ext cx="58341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2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простить процедуру по оформлению межгосударственных стандартов на основе национальных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552920" y="3708360"/>
            <a:ext cx="5834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3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проведение патентной эксперт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554360" y="4471920"/>
            <a:ext cx="5834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4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Заменить аббревиатуру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SO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ACC (EA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4586400" y="5176800"/>
            <a:ext cx="5833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5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подраздел «Нормативные ссылки» при наличии одной 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586400" y="6135840"/>
            <a:ext cx="58338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marL="380880" indent="-380880">
              <a:buClr>
                <a:srgbClr val="003399"/>
              </a:buClr>
              <a:buFont typeface="Arial"/>
              <a:buAutoNum type="arabicPeriod" startAt="6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сключить ограничения по введению в библиографию стандарта справочных и рекомендательных ссы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10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4A8-0E2D-45DE-9CC3-F92C459C8E0A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6"/>
          <p:cNvSpPr/>
          <p:nvPr/>
        </p:nvSpPr>
        <p:spPr>
          <a:xfrm>
            <a:off x="4554360" y="1547640"/>
            <a:ext cx="5183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1 Область применения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2 Нормативные  ссылки……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3 Термины, определения и сокращения …………………………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  Общие положения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1 Сроки действия программы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2 Этапы формирования и реализации программы межгосударственной стандартизации через бюро МГС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3 Структура программы межгосударственной стандартизации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4 Общие принципы формирования программы межгосударственной стандартизации и участники выполнения работ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4.5 Автоматизация процессов формирования программы межгосударственной стандартизации и контроля за ее реализацией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  Формирование программы межгосударственной стандартизаци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1 Начало формирования программы  межгосударственной стандартизации 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2 Формирование предложений по разработке и обновлению стандартов…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3 Участие межгосударственных технических комитетов по стандартизации в формировании программы межгосударственной стандартизации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5.4 Формирование и принятие программы межгосударственной стандартизации………………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6  Корректировка программы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7 Контроль за реализацией программы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8 Источники финансирования работ по программе межгосударственной стандартизации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Приложение А (обязательное) Форма программы межгосударственной  стандартизации………………………………</a:t>
            </a: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450720" y="1836720"/>
            <a:ext cx="3780000" cy="534528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74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ГОСТ 1.7–201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4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D73-45AE-481C-B89B-5092D514C4CF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6"/>
          <p:cNvSpPr/>
          <p:nvPr/>
        </p:nvSpPr>
        <p:spPr>
          <a:xfrm>
            <a:off x="4554360" y="1547640"/>
            <a:ext cx="518328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1 Просить нац. органы направить до 28 мая 2018 г. в Росстандарт (МТК 536) предложения и замечания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по первым ред. проектов станд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2 Росстандарту (МТК 536) направить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в нац. органы доработанные окончательные ред. проектов стандартов до 20 июн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3 Просить Росстандарт (МТК 536) </a:t>
            </a:r>
            <a:br>
              <a:rPr sz="1800"/>
            </a:b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до 15 сентября 2018 г. провести голосование по проектам окончательных ред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800" spc="-1" strike="noStrike">
                <a:solidFill>
                  <a:srgbClr val="005a9e"/>
                </a:solidFill>
                <a:latin typeface="Verdana"/>
              </a:rPr>
              <a:t>4 Включить в повестку заседания 56-го НТКС вопрос о принятии проектов окончательных ред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Титульный лист ГОСТ 1"/>
          <p:cNvPicPr/>
          <p:nvPr/>
        </p:nvPicPr>
        <p:blipFill>
          <a:blip r:embed="rId1"/>
          <a:stretch/>
        </p:blipFill>
        <p:spPr>
          <a:xfrm>
            <a:off x="2630520" y="4738680"/>
            <a:ext cx="1727280" cy="244152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78" name="Заголовок 1"/>
          <p:cNvSpPr/>
          <p:nvPr/>
        </p:nvSpPr>
        <p:spPr>
          <a:xfrm>
            <a:off x="797040" y="95400"/>
            <a:ext cx="81928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Предложения в протокол заседания 55-го НТК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1"/>
          <p:cNvPicPr/>
          <p:nvPr/>
        </p:nvPicPr>
        <p:blipFill>
          <a:blip r:embed="rId2"/>
          <a:stretch/>
        </p:blipFill>
        <p:spPr>
          <a:xfrm>
            <a:off x="482760" y="1692360"/>
            <a:ext cx="1677960" cy="2376360"/>
          </a:xfrm>
          <a:prstGeom prst="rect">
            <a:avLst/>
          </a:prstGeom>
          <a:ln w="31680">
            <a:solidFill>
              <a:srgbClr val="d16f18"/>
            </a:solidFill>
            <a:miter/>
          </a:ln>
        </p:spPr>
      </p:pic>
      <p:pic>
        <p:nvPicPr>
          <p:cNvPr id="180" name="Picture 10" descr="1"/>
          <p:cNvPicPr/>
          <p:nvPr/>
        </p:nvPicPr>
        <p:blipFill>
          <a:blip r:embed="rId3"/>
          <a:stretch/>
        </p:blipFill>
        <p:spPr>
          <a:xfrm>
            <a:off x="2630520" y="1671480"/>
            <a:ext cx="1693800" cy="23972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pic>
        <p:nvPicPr>
          <p:cNvPr id="181" name="Picture 7" descr="1"/>
          <p:cNvPicPr/>
          <p:nvPr/>
        </p:nvPicPr>
        <p:blipFill>
          <a:blip r:embed="rId4"/>
          <a:stretch/>
        </p:blipFill>
        <p:spPr>
          <a:xfrm>
            <a:off x="468360" y="4738680"/>
            <a:ext cx="1722240" cy="2436840"/>
          </a:xfrm>
          <a:prstGeom prst="rect">
            <a:avLst/>
          </a:prstGeom>
          <a:ln w="31680">
            <a:solidFill>
              <a:srgbClr val="1f497d"/>
            </a:solidFill>
            <a:miter/>
          </a:ln>
        </p:spPr>
      </p:pic>
      <p:sp>
        <p:nvSpPr>
          <p:cNvPr id="182" name="Номер слайда 7"/>
          <p:cNvSpPr/>
          <p:nvPr/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AD28-BE37-44DB-836B-83EB1A3479E2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32:45Z</dcterms:created>
  <dc:creator>UstinovaES</dc:creator>
  <dc:description/>
  <dc:language>en-US</dc:language>
  <cp:lastModifiedBy>client801_10</cp:lastModifiedBy>
  <cp:lastPrinted>2018-03-26T06:28:39Z</cp:lastPrinted>
  <dcterms:modified xsi:type="dcterms:W3CDTF">2018-04-19T13:29:16Z</dcterms:modified>
  <cp:revision>92</cp:revision>
  <dc:subject/>
  <dc:title>Слайд 1</dc:title>
</cp:coreProperties>
</file>